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CBD-77E1-4AA4-BCE2-D599E3F5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FF8-D6F8-488C-97FB-D5F1BAB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3B1-E9E7-4863-B2E2-27746280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007-5722-4D5A-981C-55B647E6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A97-38A0-49EE-B576-29B8648B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70E-0F91-4DF0-AA13-1FA7EDF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A16-1BBB-4B97-9851-DA30454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513-C1F5-4E42-B30F-A910F1BC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C14-D7AE-4A7D-AA57-5BE0013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262-A0BF-4811-B186-071820A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CD6-5BBA-4B0B-AEA4-9043C63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364-BDD5-4FDD-8BF4-4BDB7D7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A07-8761-4DE7-A8F6-260E40A61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593360" y="1960560"/>
            <a:ext cx="354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1116000" y="2781360"/>
            <a:ext cx="7005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1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732200" y="2787480"/>
            <a:ext cx="77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270160" y="3886200"/>
            <a:ext cx="57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7209000" y="2787480"/>
            <a:ext cx="814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732200" y="3870360"/>
            <a:ext cx="8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271600" y="2790720"/>
            <a:ext cx="744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7207200" y="3879720"/>
            <a:ext cx="851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92040" y="1619280"/>
            <a:ext cx="475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说口诀算得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1187280" y="2708280"/>
            <a:ext cx="748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×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           5×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5           5×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4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92040" y="1619280"/>
            <a:ext cx="5692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根据口诀，填一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913360" y="3008160"/>
            <a:ext cx="542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925960" y="3906720"/>
            <a:ext cx="52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49440" y="3927600"/>
            <a:ext cx="689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265480" y="2997360"/>
            <a:ext cx="512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286240" y="4830840"/>
            <a:ext cx="61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1665360" y="4840200"/>
            <a:ext cx="542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1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070640" y="1619280"/>
            <a:ext cx="209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2050920" y="3141720"/>
            <a:ext cx="43344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2"/>
          <p:cNvGrpSpPr/>
          <p:nvPr/>
        </p:nvGrpSpPr>
        <p:grpSpPr>
          <a:xfrm>
            <a:off x="1258920" y="3933720"/>
            <a:ext cx="1942560" cy="936720"/>
            <a:chOff x="1258920" y="3933720"/>
            <a:chExt cx="1942560" cy="936720"/>
          </a:xfrm>
        </p:grpSpPr>
        <p:grpSp>
          <p:nvGrpSpPr>
            <p:cNvPr id="69" name="Group 15"/>
            <p:cNvGrpSpPr/>
            <p:nvPr/>
          </p:nvGrpSpPr>
          <p:grpSpPr>
            <a:xfrm>
              <a:off x="1258920" y="3933720"/>
              <a:ext cx="647280" cy="936720"/>
              <a:chOff x="1258920" y="3933720"/>
              <a:chExt cx="647280" cy="936720"/>
            </a:xfrm>
          </p:grpSpPr>
          <p:pic>
            <p:nvPicPr>
              <p:cNvPr id="70" name="Picture 13" descr="201101220907121336"/>
              <p:cNvPicPr/>
              <p:nvPr/>
            </p:nvPicPr>
            <p:blipFill>
              <a:blip r:embed="rId1"/>
              <a:srcRect l="34212" t="7668" r="1746" b="0"/>
              <a:stretch/>
            </p:blipFill>
            <p:spPr>
              <a:xfrm>
                <a:off x="1258920" y="393372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Rectangle 14"/>
              <p:cNvSpPr/>
              <p:nvPr/>
            </p:nvSpPr>
            <p:spPr>
              <a:xfrm>
                <a:off x="125892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6"/>
            <p:cNvGrpSpPr/>
            <p:nvPr/>
          </p:nvGrpSpPr>
          <p:grpSpPr>
            <a:xfrm>
              <a:off x="1906200" y="3933720"/>
              <a:ext cx="647280" cy="936720"/>
              <a:chOff x="1906200" y="3933720"/>
              <a:chExt cx="647280" cy="936720"/>
            </a:xfrm>
          </p:grpSpPr>
          <p:pic>
            <p:nvPicPr>
              <p:cNvPr id="73" name="Picture 17" descr="201101220907121336"/>
              <p:cNvPicPr/>
              <p:nvPr/>
            </p:nvPicPr>
            <p:blipFill>
              <a:blip r:embed="rId2"/>
              <a:srcRect l="34212" t="7668" r="1746" b="0"/>
              <a:stretch/>
            </p:blipFill>
            <p:spPr>
              <a:xfrm>
                <a:off x="1906200" y="393372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Rectangle 18"/>
              <p:cNvSpPr/>
              <p:nvPr/>
            </p:nvSpPr>
            <p:spPr>
              <a:xfrm>
                <a:off x="190620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9"/>
            <p:cNvGrpSpPr/>
            <p:nvPr/>
          </p:nvGrpSpPr>
          <p:grpSpPr>
            <a:xfrm>
              <a:off x="2553840" y="3933720"/>
              <a:ext cx="647640" cy="936720"/>
              <a:chOff x="2553840" y="3933720"/>
              <a:chExt cx="647640" cy="936720"/>
            </a:xfrm>
          </p:grpSpPr>
          <p:pic>
            <p:nvPicPr>
              <p:cNvPr id="76" name="Picture 20" descr="201101220907121336"/>
              <p:cNvPicPr/>
              <p:nvPr/>
            </p:nvPicPr>
            <p:blipFill>
              <a:blip r:embed="rId3"/>
              <a:srcRect l="34212" t="7668" r="1746" b="0"/>
              <a:stretch/>
            </p:blipFill>
            <p:spPr>
              <a:xfrm>
                <a:off x="2553840" y="3933720"/>
                <a:ext cx="6476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Rectangle 21"/>
              <p:cNvSpPr/>
              <p:nvPr/>
            </p:nvSpPr>
            <p:spPr>
              <a:xfrm>
                <a:off x="255384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23"/>
          <p:cNvGrpSpPr/>
          <p:nvPr/>
        </p:nvGrpSpPr>
        <p:grpSpPr>
          <a:xfrm>
            <a:off x="1428840" y="5003640"/>
            <a:ext cx="1942560" cy="936720"/>
            <a:chOff x="1428840" y="5003640"/>
            <a:chExt cx="1942560" cy="936720"/>
          </a:xfrm>
        </p:grpSpPr>
        <p:grpSp>
          <p:nvGrpSpPr>
            <p:cNvPr id="79" name="Group 24"/>
            <p:cNvGrpSpPr/>
            <p:nvPr/>
          </p:nvGrpSpPr>
          <p:grpSpPr>
            <a:xfrm>
              <a:off x="1428840" y="5003640"/>
              <a:ext cx="647280" cy="936720"/>
              <a:chOff x="1428840" y="5003640"/>
              <a:chExt cx="647280" cy="936720"/>
            </a:xfrm>
          </p:grpSpPr>
          <p:pic>
            <p:nvPicPr>
              <p:cNvPr id="80" name="Picture 25" descr="201101220907121336"/>
              <p:cNvPicPr/>
              <p:nvPr/>
            </p:nvPicPr>
            <p:blipFill>
              <a:blip r:embed="rId4"/>
              <a:srcRect l="34212" t="7668" r="1746" b="0"/>
              <a:stretch/>
            </p:blipFill>
            <p:spPr>
              <a:xfrm>
                <a:off x="1428840" y="500364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Rectangle 26"/>
              <p:cNvSpPr/>
              <p:nvPr/>
            </p:nvSpPr>
            <p:spPr>
              <a:xfrm>
                <a:off x="142884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2076120" y="5003640"/>
              <a:ext cx="647280" cy="936720"/>
              <a:chOff x="2076120" y="5003640"/>
              <a:chExt cx="647280" cy="936720"/>
            </a:xfrm>
          </p:grpSpPr>
          <p:pic>
            <p:nvPicPr>
              <p:cNvPr id="83" name="Picture 28" descr="201101220907121336"/>
              <p:cNvPicPr/>
              <p:nvPr/>
            </p:nvPicPr>
            <p:blipFill>
              <a:blip r:embed="rId5"/>
              <a:srcRect l="34212" t="7668" r="1746" b="0"/>
              <a:stretch/>
            </p:blipFill>
            <p:spPr>
              <a:xfrm>
                <a:off x="2076120" y="500364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Rectangle 29"/>
              <p:cNvSpPr/>
              <p:nvPr/>
            </p:nvSpPr>
            <p:spPr>
              <a:xfrm>
                <a:off x="207612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2723760" y="5003640"/>
              <a:ext cx="647640" cy="936720"/>
              <a:chOff x="2723760" y="5003640"/>
              <a:chExt cx="647640" cy="936720"/>
            </a:xfrm>
          </p:grpSpPr>
          <p:pic>
            <p:nvPicPr>
              <p:cNvPr id="86" name="Picture 31" descr="201101220907121336"/>
              <p:cNvPicPr/>
              <p:nvPr/>
            </p:nvPicPr>
            <p:blipFill>
              <a:blip r:embed="rId6"/>
              <a:srcRect l="34212" t="7668" r="1746" b="0"/>
              <a:stretch/>
            </p:blipFill>
            <p:spPr>
              <a:xfrm>
                <a:off x="2723760" y="5003640"/>
                <a:ext cx="6476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32"/>
              <p:cNvSpPr/>
              <p:nvPr/>
            </p:nvSpPr>
            <p:spPr>
              <a:xfrm>
                <a:off x="272376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Group 33"/>
          <p:cNvGrpSpPr/>
          <p:nvPr/>
        </p:nvGrpSpPr>
        <p:grpSpPr>
          <a:xfrm>
            <a:off x="2627280" y="1700280"/>
            <a:ext cx="5327280" cy="2571480"/>
            <a:chOff x="2627280" y="1700280"/>
            <a:chExt cx="5327280" cy="2571480"/>
          </a:xfrm>
        </p:grpSpPr>
        <p:pic>
          <p:nvPicPr>
            <p:cNvPr id="89" name="Picture 31" descr="20"/>
            <p:cNvPicPr/>
            <p:nvPr/>
          </p:nvPicPr>
          <p:blipFill>
            <a:blip r:embed="rId7"/>
            <a:stretch/>
          </p:blipFill>
          <p:spPr>
            <a:xfrm>
              <a:off x="5794200" y="1700280"/>
              <a:ext cx="21603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AutoShape 32"/>
            <p:cNvSpPr/>
            <p:nvPr/>
          </p:nvSpPr>
          <p:spPr>
            <a:xfrm>
              <a:off x="2627280" y="2492280"/>
              <a:ext cx="3600360" cy="456840"/>
            </a:xfrm>
            <a:prstGeom prst="wedgeRoundRectCallout">
              <a:avLst>
                <a:gd name="adj1" fmla="val 57268"/>
                <a:gd name="adj2" fmla="val 49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算杯子和灯各有多少个？ 试着编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口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34" descr="24"/>
          <p:cNvPicPr/>
          <p:nvPr/>
        </p:nvPicPr>
        <p:blipFill>
          <a:blip r:embed="rId8"/>
          <a:stretch/>
        </p:blipFill>
        <p:spPr>
          <a:xfrm>
            <a:off x="4427640" y="3933720"/>
            <a:ext cx="3600360" cy="1967040"/>
          </a:xfrm>
          <a:prstGeom prst="rect">
            <a:avLst/>
          </a:prstGeom>
          <a:ln w="0">
            <a:noFill/>
          </a:ln>
        </p:spPr>
      </p:pic>
      <p:sp>
        <p:nvSpPr>
          <p:cNvPr id="92" name="矩形 28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918360" y="1619280"/>
            <a:ext cx="2403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4932360" y="1268280"/>
            <a:ext cx="4105440" cy="3364200"/>
            <a:chOff x="4932360" y="1268280"/>
            <a:chExt cx="4105440" cy="3364200"/>
          </a:xfrm>
        </p:grpSpPr>
        <p:pic>
          <p:nvPicPr>
            <p:cNvPr id="96" name="Picture 13" descr="20"/>
            <p:cNvPicPr/>
            <p:nvPr/>
          </p:nvPicPr>
          <p:blipFill>
            <a:blip r:embed="rId1"/>
            <a:stretch/>
          </p:blipFill>
          <p:spPr>
            <a:xfrm>
              <a:off x="6877080" y="206064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14"/>
            <p:cNvSpPr/>
            <p:nvPr/>
          </p:nvSpPr>
          <p:spPr>
            <a:xfrm>
              <a:off x="4932360" y="1268280"/>
              <a:ext cx="3600360" cy="456840"/>
            </a:xfrm>
            <a:prstGeom prst="wedgeRoundRectCallout">
              <a:avLst>
                <a:gd name="adj1" fmla="val 29750"/>
                <a:gd name="adj2" fmla="val 180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你照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口诀，自己举例编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口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5" descr="54-1"/>
          <p:cNvPicPr/>
          <p:nvPr/>
        </p:nvPicPr>
        <p:blipFill>
          <a:blip r:embed="rId2"/>
          <a:stretch/>
        </p:blipFill>
        <p:spPr>
          <a:xfrm>
            <a:off x="1185840" y="4957920"/>
            <a:ext cx="5403960" cy="149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54-2"/>
          <p:cNvPicPr/>
          <p:nvPr/>
        </p:nvPicPr>
        <p:blipFill>
          <a:blip r:embed="rId3"/>
          <a:stretch/>
        </p:blipFill>
        <p:spPr>
          <a:xfrm>
            <a:off x="1163520" y="3716280"/>
            <a:ext cx="5446800" cy="10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54-3"/>
          <p:cNvPicPr/>
          <p:nvPr/>
        </p:nvPicPr>
        <p:blipFill>
          <a:blip r:embed="rId4"/>
          <a:stretch/>
        </p:blipFill>
        <p:spPr>
          <a:xfrm>
            <a:off x="2432160" y="2349360"/>
            <a:ext cx="298764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0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"/>
          <p:cNvSpPr/>
          <p:nvPr/>
        </p:nvSpPr>
        <p:spPr>
          <a:xfrm>
            <a:off x="5219640" y="2637000"/>
            <a:ext cx="3279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81120" y="2637000"/>
            <a:ext cx="3743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92040" y="1619280"/>
            <a:ext cx="511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计算并写出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645240" y="2637000"/>
            <a:ext cx="89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170320" y="3213000"/>
            <a:ext cx="3603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二得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494000" y="3214800"/>
            <a:ext cx="3346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三得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70080" y="2637000"/>
            <a:ext cx="79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579680" y="4508640"/>
            <a:ext cx="338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18200" y="4537080"/>
            <a:ext cx="295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051000" y="4494240"/>
            <a:ext cx="79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1492200" y="5084640"/>
            <a:ext cx="339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五二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6724800" y="4533840"/>
            <a:ext cx="76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170320" y="5084640"/>
            <a:ext cx="3251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三得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9" descr="54-4"/>
          <p:cNvPicPr/>
          <p:nvPr/>
        </p:nvPicPr>
        <p:blipFill>
          <a:blip r:embed="rId1"/>
          <a:stretch/>
        </p:blipFill>
        <p:spPr>
          <a:xfrm>
            <a:off x="1258920" y="2316240"/>
            <a:ext cx="2924280" cy="1361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92040" y="1619280"/>
            <a:ext cx="475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看图直接说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1355760" y="3789360"/>
            <a:ext cx="191916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三得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003640" y="3789360"/>
            <a:ext cx="189576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三得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352520" y="5734080"/>
            <a:ext cx="192564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二得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5002200" y="5732640"/>
            <a:ext cx="191448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五十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4"/>
          <p:cNvGrpSpPr/>
          <p:nvPr/>
        </p:nvGrpSpPr>
        <p:grpSpPr>
          <a:xfrm>
            <a:off x="4122720" y="1604880"/>
            <a:ext cx="4336560" cy="2400480"/>
            <a:chOff x="4122720" y="1604880"/>
            <a:chExt cx="4336560" cy="2400480"/>
          </a:xfrm>
        </p:grpSpPr>
        <p:pic>
          <p:nvPicPr>
            <p:cNvPr id="125" name="Picture 41" descr="{A700E4EA-2651-4D2A-8896-D0E52C8D9FDC}"/>
            <p:cNvPicPr/>
            <p:nvPr/>
          </p:nvPicPr>
          <p:blipFill>
            <a:blip r:embed="rId2"/>
            <a:stretch/>
          </p:blipFill>
          <p:spPr>
            <a:xfrm>
              <a:off x="4122720" y="1604880"/>
              <a:ext cx="238428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2" descr="{A700E4EA-2651-4D2A-8896-D0E52C8D9FDC}"/>
            <p:cNvPicPr/>
            <p:nvPr/>
          </p:nvPicPr>
          <p:blipFill>
            <a:blip r:embed="rId3"/>
            <a:stretch/>
          </p:blipFill>
          <p:spPr>
            <a:xfrm>
              <a:off x="5097240" y="1612800"/>
              <a:ext cx="238392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3" descr="{A700E4EA-2651-4D2A-8896-D0E52C8D9FDC}"/>
            <p:cNvPicPr/>
            <p:nvPr/>
          </p:nvPicPr>
          <p:blipFill>
            <a:blip r:embed="rId4"/>
            <a:stretch/>
          </p:blipFill>
          <p:spPr>
            <a:xfrm>
              <a:off x="6075000" y="1621080"/>
              <a:ext cx="2384280" cy="23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47"/>
          <p:cNvGrpSpPr/>
          <p:nvPr/>
        </p:nvGrpSpPr>
        <p:grpSpPr>
          <a:xfrm>
            <a:off x="1042920" y="4065480"/>
            <a:ext cx="3052800" cy="1884600"/>
            <a:chOff x="1042920" y="4065480"/>
            <a:chExt cx="3052800" cy="1884600"/>
          </a:xfrm>
        </p:grpSpPr>
        <p:pic>
          <p:nvPicPr>
            <p:cNvPr id="129" name="Picture 45" descr="{A1FC7C75-1771-4C71-B180-1E9DA2597B2F}"/>
            <p:cNvPicPr/>
            <p:nvPr/>
          </p:nvPicPr>
          <p:blipFill>
            <a:blip r:embed="rId5"/>
            <a:stretch/>
          </p:blipFill>
          <p:spPr>
            <a:xfrm>
              <a:off x="1042920" y="4065480"/>
              <a:ext cx="187344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6" descr="{A1FC7C75-1771-4C71-B180-1E9DA2597B2F}"/>
            <p:cNvPicPr/>
            <p:nvPr/>
          </p:nvPicPr>
          <p:blipFill>
            <a:blip r:embed="rId6"/>
            <a:stretch/>
          </p:blipFill>
          <p:spPr>
            <a:xfrm>
              <a:off x="2222640" y="4076640"/>
              <a:ext cx="187308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51"/>
          <p:cNvGrpSpPr/>
          <p:nvPr/>
        </p:nvGrpSpPr>
        <p:grpSpPr>
          <a:xfrm>
            <a:off x="4782960" y="4581360"/>
            <a:ext cx="3632040" cy="1285560"/>
            <a:chOff x="4782960" y="4581360"/>
            <a:chExt cx="3632040" cy="1285560"/>
          </a:xfrm>
        </p:grpSpPr>
        <p:pic>
          <p:nvPicPr>
            <p:cNvPr id="132" name="Picture 48" descr="{F414191B-3EAD-4134-87DB-8D532B1B9327}"/>
            <p:cNvPicPr/>
            <p:nvPr/>
          </p:nvPicPr>
          <p:blipFill>
            <a:blip r:embed="rId7"/>
            <a:stretch/>
          </p:blipFill>
          <p:spPr>
            <a:xfrm>
              <a:off x="4782960" y="4581360"/>
              <a:ext cx="138708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9" descr="{F414191B-3EAD-4134-87DB-8D532B1B9327}"/>
            <p:cNvPicPr/>
            <p:nvPr/>
          </p:nvPicPr>
          <p:blipFill>
            <a:blip r:embed="rId8"/>
            <a:stretch/>
          </p:blipFill>
          <p:spPr>
            <a:xfrm>
              <a:off x="5889240" y="4581360"/>
              <a:ext cx="138708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0" descr="{F414191B-3EAD-4134-87DB-8D532B1B9327}"/>
            <p:cNvPicPr/>
            <p:nvPr/>
          </p:nvPicPr>
          <p:blipFill>
            <a:blip r:embed="rId9"/>
            <a:stretch/>
          </p:blipFill>
          <p:spPr>
            <a:xfrm>
              <a:off x="7027920" y="4590000"/>
              <a:ext cx="1387080" cy="12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19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一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18:44Z</dcterms:created>
  <dc:creator>PC</dc:creator>
  <dc:description/>
  <dc:language>en-US</dc:language>
  <cp:lastModifiedBy>万润仪器贸易公司</cp:lastModifiedBy>
  <dcterms:modified xsi:type="dcterms:W3CDTF">2018-09-01T10:18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